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544-D34F-49FA-A1AB-BF51061B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6A5-8623-440C-BB22-0D769EF2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5B4-6F39-4499-A22D-ED326217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07EA-8FB5-4CF1-9F07-C2A75A1A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2E5-096B-420B-968F-1AA6435A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6775-9B64-4BF1-BEEF-5759B2FA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7091-0541-47EE-A3DF-CF8BA188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3349-E4AF-47B6-A221-847C74B4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358-7754-4E95-8B00-3559F29F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4EBE-F6F2-4554-8A88-D9B7C951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6AAE-BACF-4248-8EDB-A9F6A504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E60-F478-42B7-9624-C63BE9C8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63A19-2F97-4CF0-A186-61721EC4D52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280" y="178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u Sorribes Carr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DejaVu Sans Condensed"/>
              </a:rPr>
              <a:t>Referente Edipo Re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Las partes de la ob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Esta tragedia tiene diferentes part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1. Las predicciones del oráculo de Tires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2. Asesinato de su padre (sin saber que es é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3. Cumplimiento de las predicc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4. Edipo se casa con su mad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5. Culpabilidad del asesina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6. Suicidio de Yocasta y mas tarde de Edi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La historia de Edi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La historia de Edipo trata como tema principal la puesta en contra de la investigación que Edipo, el protagonista, comienza. En este caso Edipo acaba matando a su propio padre, rey de Tebas, y casandose con su mujer, la madre de Edip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Referentes Cinematof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ta tragedia, al dejar un final abierto, ha dejado en el cine algunas películas que siguen sus huellas como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1. El planeta de los sim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2. La interpe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3.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4. Poderosa Afrod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matrix" descr=""/>
          <p:cNvPicPr/>
          <p:nvPr/>
        </p:nvPicPr>
        <p:blipFill>
          <a:blip r:embed=""/>
          <a:stretch/>
        </p:blipFill>
        <p:spPr>
          <a:xfrm>
            <a:off x="7199280" y="3419640"/>
            <a:ext cx="2879640" cy="4140000"/>
          </a:xfrm>
          <a:prstGeom prst="rect">
            <a:avLst/>
          </a:prstGeom>
          <a:ln w="0">
            <a:noFill/>
          </a:ln>
        </p:spPr>
      </p:pic>
      <p:pic>
        <p:nvPicPr>
          <p:cNvPr id="50" name="planeta-simios" descr=""/>
          <p:cNvPicPr/>
          <p:nvPr/>
        </p:nvPicPr>
        <p:blipFill>
          <a:blip r:embed=""/>
          <a:stretch/>
        </p:blipFill>
        <p:spPr>
          <a:xfrm>
            <a:off x="4768920" y="1260360"/>
            <a:ext cx="3151080" cy="4500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dur="indefinite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lgunas de las imagenes que dan a ver la tragedia de Edipo son,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2zhm9m9" descr=""/>
          <p:cNvPicPr/>
          <p:nvPr/>
        </p:nvPicPr>
        <p:blipFill>
          <a:blip r:embed=""/>
          <a:stretch/>
        </p:blipFill>
        <p:spPr>
          <a:xfrm>
            <a:off x="-15840" y="3751200"/>
            <a:ext cx="2895480" cy="3810240"/>
          </a:xfrm>
          <a:prstGeom prst="rect">
            <a:avLst/>
          </a:prstGeom>
          <a:ln w="0">
            <a:noFill/>
          </a:ln>
        </p:spPr>
      </p:pic>
      <p:pic>
        <p:nvPicPr>
          <p:cNvPr id="54" name="aaas" descr=""/>
          <p:cNvPicPr/>
          <p:nvPr/>
        </p:nvPicPr>
        <p:blipFill>
          <a:blip r:embed=""/>
          <a:stretch/>
        </p:blipFill>
        <p:spPr>
          <a:xfrm>
            <a:off x="7794720" y="900000"/>
            <a:ext cx="2286000" cy="4546800"/>
          </a:xfrm>
          <a:prstGeom prst="rect">
            <a:avLst/>
          </a:prstGeom>
          <a:ln w="0">
            <a:noFill/>
          </a:ln>
        </p:spPr>
      </p:pic>
      <p:pic>
        <p:nvPicPr>
          <p:cNvPr id="55" name="edipo" descr=""/>
          <p:cNvPicPr/>
          <p:nvPr/>
        </p:nvPicPr>
        <p:blipFill>
          <a:blip r:embed=""/>
          <a:stretch/>
        </p:blipFill>
        <p:spPr>
          <a:xfrm>
            <a:off x="5219640" y="3780000"/>
            <a:ext cx="4319640" cy="3779640"/>
          </a:xfrm>
          <a:prstGeom prst="rect">
            <a:avLst/>
          </a:prstGeom>
          <a:ln w="0">
            <a:noFill/>
          </a:ln>
        </p:spPr>
      </p:pic>
      <p:pic>
        <p:nvPicPr>
          <p:cNvPr id="56" name="000720620" descr=""/>
          <p:cNvPicPr/>
          <p:nvPr/>
        </p:nvPicPr>
        <p:blipFill>
          <a:blip r:embed=""/>
          <a:stretch/>
        </p:blipFill>
        <p:spPr>
          <a:xfrm>
            <a:off x="2700360" y="900000"/>
            <a:ext cx="3060720" cy="4579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0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dur="indefinite" nodeType="afterEffect" fill="hold" presetClass="entr" presetID="4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dur="indefinite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7:22:35Z</dcterms:created>
  <dc:creator>. </dc:creator>
  <dc:description/>
  <dc:language>en-US</dc:language>
  <cp:lastModifiedBy/>
  <cp:revision>1</cp:revision>
  <dc:subject/>
  <dc:title/>
</cp:coreProperties>
</file>